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4488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00500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09240" y="679320"/>
            <a:ext cx="4629240" cy="34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61920" y="4452480"/>
            <a:ext cx="51278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829360"/>
            <a:ext cx="304488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005000" y="8829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B50384-33C6-47AE-9FC4-7D29AB750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11400" y="679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61920" y="4452480"/>
            <a:ext cx="51278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Summary Info: Complete all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11400" y="679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61920" y="4452480"/>
            <a:ext cx="51278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Summary Info: Complete all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37D-6EAE-4844-91AF-75F71DF9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72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F57-68EC-4286-84EC-5C64D85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452-3F0F-4557-BBA1-87537696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749-FDD8-410F-AAE3-EE689377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E0BF-6DA3-4DB4-9361-843869FE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C872-E27F-4147-8E23-851907B2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350A-75C9-4DEA-A88C-094C257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01CA-6FBC-4EED-BE1F-1172D42E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A866-4018-4383-B9DB-C79587B6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EFB6-31A1-4581-8F03-F15F30C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788-9274-4E65-9F1C-5A178130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334-2877-40AB-AC46-6A9A02EF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54B2-B529-4E74-87E8-CDBCA917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B94B-A1D3-4E34-BF38-8936928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172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D9A4-88A0-4CAA-883A-9C3DBCF2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5F1A-E3E5-4999-B5D0-B36B66F6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1726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4C90-396A-48DB-A87B-74F3C7FD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F8B-450F-45E2-810C-5083BC63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005-D8A1-4407-9BD7-90AE0AD1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784-5F68-4C98-A897-A2CF0BC4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417-0707-466C-9CF8-AE74F15E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C8C-F3EA-4794-993A-6A860A84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1726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11F-E65B-45A4-9E98-DC449591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2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726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246-AFDD-47AA-9E3F-857CA7E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62000"/>
            <a:ext cx="9145440" cy="52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14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DA78-36FF-482D-A77E-AA6EC2D85B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54480" y="6477120"/>
            <a:ext cx="23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anTech Proprie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33920" y="2054160"/>
            <a:ext cx="3610080" cy="427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6321600"/>
            <a:ext cx="9145440" cy="53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59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14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1625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0AD6-F74B-4CB9-B29A-B78502035D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ROVIDE CIS SUPPORT FOR NEW HQ ISAF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JOINT CIS CONTROL CENTER (JCCC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O Business Analysi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d / No Bid De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ahoma"/>
              </a:rPr>
              <a:t>RFQ &amp; BID DUE DATE – 3Q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ahoma"/>
              </a:rPr>
              <a:t>START DATE –  4Q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ahoma"/>
              </a:rPr>
              <a:t>CAPTURE MANAGER – TB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430800" y="6006960"/>
            <a:ext cx="23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anTech Proprie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3160" y="76320"/>
            <a:ext cx="23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anTech Proprie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0AE-3382-47E3-B3EC-A2590E792B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AL / PROGRAM SUMMA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99072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ch will provide CIS Management &amp; Control Tools (Hardware &amp; Software Instal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37 contractors (maximum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 period:  2008 thru 2010 (fu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teaming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 contract value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21.8 (mill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986-0610-4636-866E-705F4E9576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sks/Issues/Concer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90720"/>
            <a:ext cx="7924680" cy="67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ward to lowest compliant bi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s CV and Past Performanc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posal R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&amp;P Funds Request of $_______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attach B&amp;P request form for sign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schedule for coordination with subcontrac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R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cal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risk - Short duration staffing su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ual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Risk - Liquidated damages max at 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A28-7ADD-4C5E-8E9B-30EF3EB33B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4:04:26Z</dcterms:created>
  <dc:creator>ManTech</dc:creator>
  <dc:description/>
  <dc:language>en-US</dc:language>
  <cp:lastModifiedBy>jrohalloran</cp:lastModifiedBy>
  <cp:lastPrinted>2003-11-03T16:23:09Z</cp:lastPrinted>
  <dcterms:modified xsi:type="dcterms:W3CDTF">2008-06-05T22:00:28Z</dcterms:modified>
  <cp:revision>132</cp:revision>
  <dc:subject/>
  <dc:title>No Slide Title</dc:title>
</cp:coreProperties>
</file>